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9AA-E5ED-4E45-B435-5450C1AB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6B5-B34E-43AA-837C-920607B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289-E8B0-40B0-9C31-2B2FFE15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A94-BFE9-4EE7-8AEF-8DBC63EF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7F39-7A7C-4376-84DF-1A5CDDDE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46BC-FC2B-440D-BB2C-DA64E8D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4B4B-4620-4192-975A-8FCB8A54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DDDE-247E-4404-90BE-7D8FE755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E86F-CD97-4224-B722-F854CF4D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9A65-C4D3-4848-A766-7B1B88F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2F65-8982-4AB7-A30E-72CB5B7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972-999B-4683-8AF4-4C54482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A3EC-74FA-4492-844F-0181502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2D1-D411-4591-9514-8675FA5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EF4-943D-4E44-BA98-DEEAAF9C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AF4-2CF8-4BA8-A0E0-692E529B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2D05-E924-4ACD-AFF2-A3375566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ECD-536D-4C66-8B94-F4A9665E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67D-64FA-4BA2-B89B-BBDFBBE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C67-4EC8-4AED-9640-65F0F8E0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6FB-1A99-4B6A-9106-C3DE6795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07B-564C-4916-9FD4-3BC4545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832-32D9-4DE1-98C8-2F61C48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2FB-0ABE-4369-8DBE-D285D82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73F-6D3A-49A4-8CA0-786F1216B0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EAAD-5253-4229-84A5-8B5071F87787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ecoportal.ru/news.php?id=30545" TargetMode="External"/><Relationship Id="rId3" Type="http://schemas.openxmlformats.org/officeDocument/2006/relationships/hyperlink" Target="http://ecoportal.ru/news.php?id=30556" TargetMode="External"/><Relationship Id="rId4" Type="http://schemas.openxmlformats.org/officeDocument/2006/relationships/hyperlink" Target="http://ecoportal.ru/news.php?id=30594" TargetMode="External"/><Relationship Id="rId5" Type="http://schemas.openxmlformats.org/officeDocument/2006/relationships/hyperlink" Target="http://ecoportal.ru/news.php?id=30595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32000" y="2349360"/>
            <a:ext cx="6264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оохран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логическ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рганиза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95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ВФ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- Всемирный фонд дикой природы </a:t>
            </a: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WWF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- 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World Wide Fundfor Nat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3280" y="1844280"/>
            <a:ext cx="450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61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5,3 млн. постоянных спонсоров и национальных ассоциаций пяти континен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предотвращение деградации природной среды; помощь в построении будущего с гармоничным сосуществованием человека и природы; привлечение финансовых средств для охраны природы и спасения от исчезновения отдельных видов флоры и фау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сохранение разнообразия (генетического, видового и экосистемного); обеспечение устойчивой модели использования возобновляемых природных ресурсов; содействие снижению загрязнения, рациональному потреблению ресурсов и энергии; разработка стратегических подходов к проблеме сохранения природ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www.wwf.ru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228840" cy="41148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05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Гринпис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Greenpeace International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32000" y="2060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 создания: 1971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стники: тесно связанная сеть национальных и региональных отделений - 1330 сотрудников 43 отделений в 30 страна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ли: гарантировать способность Земли воспроизводить жизнь во      всём её многообраз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деятельность: кампан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биоразнообразию, по защите атмосферы, антиядерная, по токсичным веществам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www.greenpeace.org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40000" cy="2228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2881440" cy="1965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213840"/>
            <a:ext cx="77407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   </a:t>
            </a: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Центр экологической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   политики и культуры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7280" y="1844640"/>
            <a:ext cx="4824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2007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региональные отделения в 60 субъектах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 содействие развитию активности гражданского общества, его конструктивного сотрудничества с госструктурами и бизнесом для решения экологических проблем, развития культуры и обеспечения устойчивого развит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региональная экологическая политика в интересах устойчивого развития: разработка индикаторов устойчивого развития и модельных региональных законов,        формирование экологической культуры: разработка стратегии формирования экологической культуры, поддержка региональных программ и инициатив,      развитие структур гражданского общества: развитие институтов общественной политики и системы общественных сов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887640" cy="2089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640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Арктический Совет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 The Arctic Council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7280" y="1844280"/>
            <a:ext cx="471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од создания: 1996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астники: Канада, Дания, Финляндия, Исландия, Норвегия, Российская Федерация, Швеция, СШ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Цели: обеспечение механизма решения общих вопросов и развития, касающихся правительств Арктических стран  и народов Арктики; обеспечить развитие и координацию сотрудничества взаимодействие арктических стран по проблемам Арктики; руководить и координировать программы, созданные под эгидой АЕПС; распространять информацию, содействовать образованию и стимулировать интерес к  арктическим проблем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сновная деятельность: охрана окружающей среды Арктики и устойчивое развитие как средство улучшения экономического, социального и культурного благополучия Севе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673440" cy="2706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МЗК - Зеленый крест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GCI </a:t>
            </a: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Green Cross International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82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 создания: 1993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стники: национальные организации и подготовительные комитеты в 50 странах мира, частные л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ли: осуществление мер по борьбе с антропогенными экологическими бедствиями, содействие обмену экологическими знаниями и технологиями, поддержка в развитии экологического законодатель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деятельность: реализация проектов по различным аспектам ООС, в том числе по уничтожению токсичных веществ, созданию системы оповещения о катастрофах, экологическому просвещению, разработке международного экологического кодек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www.green-cross.ru 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2819520"/>
            <a:ext cx="3600720" cy="3273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ВООП </a:t>
            </a: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Всероссийское общество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 охраны природ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7280" y="1844280"/>
            <a:ext cx="471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2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организации во всех субъектах Российской Федерации, ученые и специалисты различных отраслей хозяй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организация движения общественности за здоровую и благоприятную экологическую обстановку в России, воспитание бережного отношения к природе, привлечение населения к работе по охране, правильному использованию и восстановлению природных ресурсов, озеленению городов и др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- экологическое образование и воспитание населения, пропаганда экологических знаний, научно-техническая и практическая природоохранная деятельность, общественный контроль за соблюдением природоохранного законодательства, организация клубного движения по естественно-научным направле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7360" y="2565360"/>
            <a:ext cx="3463920" cy="3611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Фонд дикой природы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 в России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9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организации в 40 регионах Росси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организация движения общественности за здоровую и благоприятную экологическую обстановку в России, воспитание бережного отношения к природе, привлечение населения к работе по охране, правильному использованию и восстановлению природных ресурсов, озеленению городов и др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экологическое образование и воспитание населения, пропаганда экологических знаний, научно-техническая и практическая природоохранная деятельность, общественный контроль за соблюдением природоохранного законодатель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719520" cy="28051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ДОП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- Движение студенческих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дружин по охране природ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88000" y="1915920"/>
            <a:ext cx="417672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6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около 50 молодежных организаций и групп России, Украины, Беларуси, Таджикистана и Казахста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выявление ценных природных объектов, проектирование ООПТ, согласование их с государственными органами, контроль за их состояни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борьба с браконьерством, экологическое образование и просвещение - по этому направлению работа идет практически со всеми слоями и возрастными группами общества, информирование населения об экологических проблемах и путях их решения, 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http://dop.environment.ru/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33600" cy="3157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09308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Зеленый Мир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- член Международного Социально-Эко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Союза и Коалиции Чистая Балтика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Coalition Clean Baltic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067280" y="1844280"/>
            <a:ext cx="496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8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28 экологических организаций девяти стран Балтийского регион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объединение интеллектуального и организационного потенциала своих членов для защиты природы и всех живущих существ, сохранения природного и культурного наследия человечества, физического и духовного здоровье люд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вовлечение жителей и властей региона в процесс взаимодействия для обеспечения устойчивого, сбалансированного развития и воспроизводство Среды Обитания, защита Прав Человека, получение, анализ и распространение информации об экологической, ядерной безопасности, энергоэффективности, возобновляемой энергетике в регионе, защита морской экосистемы Балтийского моря www.greenworld.org.ru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2736720" cy="2523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5734080"/>
            <a:ext cx="3924360" cy="665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0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ЭКОМ центр экспертиз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00360" y="2060640"/>
            <a:ext cx="4454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99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структура Санкт-Петербургского общества естествоиспытателей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развитие в России современных подходов в области охраны окружающей среды, среди которых: оценка воздействия на окружающую среду, экологический менеджмент, индикаторы устойчивого развития, Местная Повестка на 21 век и друг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работа ЭКОМ сфокусирована вокруг проблемы общественного участия в принятии экологически значимых решений. Сотрудниками Центра ведется разработка механизмов эффективного взаимодействия общественности с властью и бизнес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http://ecom-info.spb.r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917880" cy="2603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Международные организации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ООН - Организация  Объединенных  На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МСОП – Международный союз охраны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ВВФ - Всемирный фонд дикой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Гринп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Всемирная хартия охраны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Центр экологической политики и куль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Арктический Со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Зеленый кр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Европейский эко - фору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381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Друзья Балтики</a:t>
            </a:r>
            <a:br>
              <a:rPr sz="2600"/>
            </a:b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 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межрегиональная общественная молодежная экологическая организация Санкт-Петербурга и Ленинградской области</a:t>
            </a:r>
            <a:br>
              <a:rPr sz="19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4720" y="1989000"/>
            <a:ext cx="4859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9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 школьники, студенты, педагоги и другие жители южного и северного берегов Финского зали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экологическоеобразование, защита природы и развитие сотрудничества учителей и молодежных экогрупп в южной части бассейна Финского зали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экологическое образование и просвещение, информационно-методическая поддержка педагогов, поддержка молодежных инициатив для устойчивого развития, общественная поддержка возобновляемой энергетики и энергосбережения, общественное участие в прибрежном планировании,       развитие сотрудничества учителей и молодежных экологических организаций в Балтийско-Скандинавском регио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http://baltchild.org.r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2360" y="2470320"/>
            <a:ext cx="3456000" cy="3406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229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Санкт-Петербургский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экологический союз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3280" y="2133720"/>
            <a:ext cx="3816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91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 природоохранные фир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формирование экологической культуры об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привлечение внимания как общественности, так и власти к проблемам экологической безопасности продукции и ее производства, формирование сектора потребительского рынка экологически безопасной продукции, поддержка предприятий, имеющих экологическ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www.ecounion.ru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03280" y="4653000"/>
            <a:ext cx="2381400" cy="1571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04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РЭК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Российский экологический конгресс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1280" y="1699920"/>
            <a:ext cx="529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96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общественные экологические  организа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объединение общественных организаций, стоящих на реалистических позициях при проведении экологических акций и осуществлении природоохранных мероприятий, консолидация экологической общественности для решения задач устойчивого развития человечества, воспитание умения жить в соответствии с законами природ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Защита экологических прав населени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реализацией Экологической доктрины Российской федерации, мониторинг экологической обстановки и состояния здоровья населения в стране, проведение независимой общественной экологической экспертизы, проектируемых объектов, товаров, услуг, содействие становлению в обществе и государстве ценностей экологического мировоззрения www.ecorek.r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5000" y="1989000"/>
            <a:ext cx="3573360" cy="3745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213840"/>
            <a:ext cx="78483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Детские экологические организации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2125800" cy="213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1557360" cy="161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165800" y="3147840"/>
            <a:ext cx="1798920" cy="1505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364000" y="1989000"/>
            <a:ext cx="1679760" cy="1679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796000" y="4834080"/>
            <a:ext cx="2743200" cy="183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50920" y="4869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1835280" y="1827360"/>
            <a:ext cx="1695240" cy="1514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108000" y="2492280"/>
            <a:ext cx="16416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028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Детский экологический центр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ГУП «Водоканал Санкт-Петербурга»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1280" y="981000"/>
            <a:ext cx="1621080" cy="103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961080" cy="3090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4468680" cy="302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Президент Дмитрий Медведев об экологии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3078360" cy="2308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зидент отметил, что проблема эколог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вляется весьма острой в современн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ссии. В неблагополучной природной сред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живают </a:t>
            </a:r>
            <a:r>
              <a:rPr b="0" lang="ru-RU" sz="1600" spc="-1" strike="noStrike" u="sng">
                <a:solidFill>
                  <a:srgbClr val="c481cf"/>
                </a:solidFill>
                <a:uFillTx/>
                <a:latin typeface="Tahoma"/>
                <a:hlinkClick r:id="rId2"/>
              </a:rPr>
              <a:t>40 миллионов россиян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из них один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иллион живет в условиях, представляющих соб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пасный уровень загрязн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решения данной ситуации президент Росси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сказался за изменение системы экологическ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ственности в стра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митрий Медведев заявил о необходимост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 u="sng">
                <a:solidFill>
                  <a:srgbClr val="c481cf"/>
                </a:solidFill>
                <a:uFillTx/>
                <a:latin typeface="Tahoma"/>
                <a:hlinkClick r:id="rId3"/>
              </a:rPr>
              <a:t>стимулирования энергосберегающих технолог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ритике президента подверглась существующа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оссии природоохранная и ресурсосберегающая система, которая не стимулирует внедрение природоохранных и ресурсосберегающих технолог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зидент России поручил изучить возможность преподавания в школе </a:t>
            </a:r>
            <a:r>
              <a:rPr b="0" lang="ru-RU" sz="1600" spc="-1" strike="noStrike" u="sng">
                <a:solidFill>
                  <a:srgbClr val="c481cf"/>
                </a:solidFill>
                <a:uFillTx/>
                <a:latin typeface="Tahoma"/>
                <a:hlinkClick r:id="rId4"/>
              </a:rPr>
              <a:t>основ эколог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В ведущих российских экологических организациях заявили, что введение в школах предмета "экология" является </a:t>
            </a:r>
            <a:r>
              <a:rPr b="0" lang="ru-RU" sz="1600" spc="-1" strike="noStrike" u="sng">
                <a:solidFill>
                  <a:srgbClr val="c481cf"/>
                </a:solidFill>
                <a:uFillTx/>
                <a:latin typeface="Tahoma"/>
                <a:hlinkClick r:id="rId5"/>
              </a:rPr>
              <a:t>правильным шагом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ведь поскольку основы экологических знаний, заложенные в школьном образовании, позволят вырастить экологически грамотное покол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Решение экологических проблем становится одним из приоритетов России», — подчеркнул Дмитрий Медведе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000"/>
                            </p:stCondLst>
                            <p:childTnLst>
                              <p:par>
                                <p:cTn id="6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333000"/>
            <a:ext cx="72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ahoma"/>
              </a:rPr>
              <a:t>Общероссийские организации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6310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ВООП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-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Всероссийское общество охраны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Российское общество экологической эконом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Комиссия общественной палаты по экологической безопасности и охране окружающей сре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СОПР – Союз охраны птиц Росс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РЭК - Российский экологический конгр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ДОП - Движение студенческих дружин по охране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ahoma"/>
              </a:rPr>
              <a:t>Российская ассоциация общественных объединений охотников и рыболов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0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Межрегиональные организации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Друзья Бал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Северный социально-экологический конгр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Природа южной Сибири и ее защи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ahoma"/>
              </a:rPr>
              <a:t>Движение дружин по охране прир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Мурманское отделение Всероссийского общества охраны прир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Экологический центр «Зеленая орби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Ассоциация зеленых Карел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ЭКОМ центр экспертиз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СПбЭС – Санкт –Петербургский экологический союз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Зеленый М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ahoma"/>
              </a:rPr>
              <a:t>Региональные организации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6b749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76b749"/>
                </a:solidFill>
                <a:latin typeface="Tahoma"/>
              </a:rPr>
              <a:t>Ведущая роль в решении вопросов, связанных  с  охраной  биосферы, принадлежит Организации  Объединенных  Нац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е 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  специализированные учреждения ООН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енеральная  Ассамбле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кономический  и  Социальный  Совет (ЭКОСОС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рганизация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ъединенных  Наций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  вопросам        продовольствия  и  сельского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озяйства (ФАО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рганизация  Объединенных  Наций  по  вопросам образования, культуры и  науки (ЮНЕСКО) 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семирная метеорологическая  организац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ВМО) Международный   банк  реконструкции  и  развития (МБРР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митет по  природным  ресурсами (КПР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жправительственная  морская  организация (ИМО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ждународно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гентство по  атомной энергии (МАГАТЭ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24940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Международные организации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ЕЖДУНАРОДНЫЕ ОРГАНИЗАЦИИ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СИСТЕМЫ ООН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ЮНСЕД - Конференция ООН по окружающей среде и развитию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СР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- United Nations Conference on Environment and Development (UNCED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ОН - Программа ООН по развитию -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ted Nations Development Programme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УР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исс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О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тойчиво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витию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United Nations Commission on Sustainable Development (CS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З - Всемирная организация ООН по вопросам здравоохранен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 Health Organisatio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 - Всемирная организация здравоохран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СОП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ю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хран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мирны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ю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хран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International Union for Nature Conservation (IUC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ЮНИД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О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мышленно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витию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United Nations Industrial Development Organisation (UNID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СКАТ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кономическа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циальна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исс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з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ихог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еан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Economic and Social Commission for Asia and the Pacific (ESCAP)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А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мирна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довольственна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ганиза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Food and Agriculture Organisation of the United Nations (FAO)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ая служба труда при Международной организации труда 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ational Labour Office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ational Labour Organization (IL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О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орговл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витию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UN Conference on Trade and Development (UNCTA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2000" y="259920"/>
            <a:ext cx="846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ЮНЕП</a:t>
            </a:r>
            <a:r>
              <a:rPr b="0" lang="ru-RU" sz="2800" spc="-1" strike="noStrike">
                <a:solidFill>
                  <a:srgbClr val="006600"/>
                </a:solidFill>
                <a:latin typeface="Tahoma"/>
              </a:rPr>
              <a:t> - Программа ООН по окружающей среде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UNEP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United Nations Environment Programm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87640" y="1915920"/>
            <a:ext cx="4167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7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государства-члены ООН (58 государств-членов Совета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предоставление новейших данных о ресурсах биосферы, содействие общему планированию и управлению развитием при соблюдении максимальной социально-экономической выгоды, привлечение дополнительных финансовых средств для технической помощи, образования и профессиональной подготов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осуществление программ в области управления окружающей средой, сохранения наземных экосистем, борьбы с опустыниванием, деградацией почв, загрязнением морской среды, изменением климата, химических веществ и опасных отход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208320" cy="3449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459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МСОП</a:t>
            </a: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6600"/>
                </a:solidFill>
                <a:latin typeface="Tahoma"/>
              </a:rPr>
              <a:t>Международный союз охраны природы</a:t>
            </a: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IUCN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– 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ahoma"/>
              </a:rPr>
              <a:t>The World Conservation Un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572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 создания: 194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астники: более 952 члена из 139 стран ми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и: влияние, поддержка и помощь организациям мира в деле сохранения целостности и разнообразия природы; обеспечение разумного и экологически устойчивого использования природных ресур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ая деятельность: осуществление мониторинга природоохранной деятельности; разработка требований по охране природы для использования местными организациями; составление планов действий на различных уровнях; содействие мерам, принимаемым правительственными и неправительственными организациями в области охраны природы; распространение информации через сеть МСО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www.iucn.ru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3659040" cy="160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336840" cy="2503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55:47Z</dcterms:created>
  <dc:creator>Acer</dc:creator>
  <dc:description/>
  <dc:language>en-US</dc:language>
  <cp:lastModifiedBy>Acer</cp:lastModifiedBy>
  <dcterms:modified xsi:type="dcterms:W3CDTF">2010-02-01T03:20:22Z</dcterms:modified>
  <cp:revision>12</cp:revision>
  <dc:subject/>
  <dc:title>Слайд 1</dc:title>
</cp:coreProperties>
</file>